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3A9-E27A-49A1-BE9A-9AEAB1B3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527-3232-4B3F-8A1C-7D403969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747-BE68-4AEF-BF9D-05F1535E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244-0152-43C3-8112-2F092434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7BB-CF62-4A5A-BF87-24ED2C60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153-9875-4D71-9887-45A05F88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866-F2AE-4AA4-A2F5-E83319D3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404-4C23-42A5-AA94-B591E5F1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B496-A44E-46BB-A3FC-6BC0D2D6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4C6-8F23-478C-B51B-00690482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A74-D234-4A07-96CC-40B0D9B1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777-CD91-4959-A55B-0A14B5A4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CCA9-0B94-443F-B3E2-6DB50AAF9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ymbol for a number we don't know yet. It is usually a letter like x or 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in x + 2 = 6, x is the variabl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is not a variable it is called a Consta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, symbols and operators (such as + and ×) grouped together that show the value of something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×3 is an expre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 with no fractional part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the counting numbers {1, 2, 3, ...}, zero {0}, and the negative of the counting numbers {-1, -2, -3, ...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write them down like this: {..., -3, -2, -1, 0, 1, 2, 3, ...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integers: -16, -3, 0, 1, 198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22:47Z</dcterms:created>
  <dc:creator>jacob.fountain</dc:creator>
  <dc:description/>
  <dc:language>en-US</dc:language>
  <cp:lastModifiedBy>jacob.fountain</cp:lastModifiedBy>
  <dcterms:modified xsi:type="dcterms:W3CDTF">2010-11-23T14:52:23Z</dcterms:modified>
  <cp:revision>2</cp:revision>
  <dc:subject/>
  <dc:title>vocabulary</dc:title>
</cp:coreProperties>
</file>